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AE50-84CF-4A42-95F6-4DBF27694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B967-59A0-4F1C-86CB-894AFF39F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0FF8-301D-432E-B199-BC0790DA1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B22C-3795-48B1-8F4A-2853A7611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D7D9-8A3C-40B6-ACF8-672A2BE55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3BD7-D38A-4744-B160-E201A9BD9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3B09-81EE-44C7-ADE9-2653D6018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0F98-5AB0-4012-A728-36048E316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FF44-9BFC-47D5-8CD5-D4E00AE3A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2E9A-D27C-4685-A148-A31EDC551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C745-1335-4EC9-B283-89D5BB1BC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E030-E64F-4EB1-9520-1CCE41987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BA851-1A25-43D8-8EE1-BC5495DBE4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hyperlink" Target="http://web.mit.edu/invent/iow/epperson.html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99cc00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248520" y="4684680"/>
            <a:ext cx="289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adira G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-1-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od Number 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r Number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28600" y="533520"/>
            <a:ext cx="8686800" cy="32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800080"/>
                  </a:solidFill>
                  <a:miter/>
                </a:ln>
                <a:gradFill rotWithShape="0">
                  <a:gsLst>
                    <a:gs pos="0">
                      <a:srgbClr val="009999"/>
                    </a:gs>
                    <a:gs pos="50000">
                      <a:srgbClr val="004646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Popsicles!!!</a:t>
            </a:r>
            <a:endParaRPr b="0" lang="en-US" sz="1800" spc="1" strike="noStrike">
              <a:ln w="12600">
                <a:solidFill>
                  <a:srgbClr val="800080"/>
                </a:solidFill>
                <a:miter/>
              </a:ln>
              <a:gradFill rotWithShape="0">
                <a:gsLst>
                  <a:gs pos="0">
                    <a:srgbClr val="009999"/>
                  </a:gs>
                  <a:gs pos="50000">
                    <a:srgbClr val="004646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3733920" cy="27432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8763120" y="76320"/>
            <a:ext cx="304560" cy="4572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629400" y="403848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: Thomas Ed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133720" y="0"/>
            <a:ext cx="434340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ic: Free Play Music, Cold Kill,6/1/2011,www.freeplaymusic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00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Epperson"/>
          <p:cNvPicPr/>
          <p:nvPr/>
        </p:nvPicPr>
        <p:blipFill>
          <a:blip r:embed="rId1"/>
          <a:stretch/>
        </p:blipFill>
        <p:spPr>
          <a:xfrm>
            <a:off x="152280" y="533520"/>
            <a:ext cx="2438640" cy="36576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Epperson"/>
          <p:cNvPicPr/>
          <p:nvPr/>
        </p:nvPicPr>
        <p:blipFill>
          <a:blip r:embed="rId2"/>
          <a:stretch/>
        </p:blipFill>
        <p:spPr>
          <a:xfrm>
            <a:off x="3276720" y="533520"/>
            <a:ext cx="5486400" cy="33526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066680" y="4836960"/>
            <a:ext cx="6477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905120" y="4572000"/>
            <a:ext cx="5479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melson MIT Program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rank Epperson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/16/11,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eb.mit.edu/invent/iow/epperson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8839080" y="152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31352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00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psicles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got its name by the children who thought of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1986, U.S.A. Operates became part of Gold Bond Ice-crea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more than 30 different flavors avail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popular flavor is Classic Oran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llions of popsicles are being eaten each year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8686800" y="152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31352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ff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ntor: Frank Eppers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ank Epperson invented a popsicle when he was 11 years old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ank was raised in San Francis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cold winter night in 1985, he mixed a soft drink with water and put it in the freezer, then the next morning he awoke to a popsic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ank accidently made a popsic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than 18 years later children started calling it a popsic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686800" y="152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31352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1T17:50:58Z</dcterms:created>
  <dc:creator>install</dc:creator>
  <dc:description/>
  <dc:language>en-US</dc:language>
  <cp:lastModifiedBy>install</cp:lastModifiedBy>
  <dcterms:modified xsi:type="dcterms:W3CDTF">2011-06-01T17:36:41Z</dcterms:modified>
  <cp:revision>17</cp:revision>
  <dc:subject/>
  <dc:title>Slide 1</dc:title>
</cp:coreProperties>
</file>